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3D38-8BF0-43D6-83D8-EB694E04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9DB-4E80-4ED8-B54A-DBEBFA06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A1F-2A11-4B76-8001-FE042ACEF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83D5-E0C1-45B0-9955-C50130ED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155-29DE-40B4-9BF7-E65E4B6A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3786-6B60-4920-8397-3CCD0DAE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80A1-3500-46EC-B5CD-F46A0B5BD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9AB-B3B8-4F72-9896-6A03349B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EFD-D030-40E5-A17E-C33FBAD3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3AC-2664-44D4-9742-1CD26C7B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D8F7-9517-487B-BBD1-B1B3E628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10FB-6258-4009-B169-FF1AB28C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273-D663-4166-B223-B0C9E3E8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A67-6FB3-4E49-AAF6-D1CE48E5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A211-5ADD-44EF-871C-F6A087C6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5E0-6BB7-43C1-8711-EEEF1D9B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C074-04B2-4B94-816C-EF2BF3A2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40A-E6BC-4BB3-806A-7DC04759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0AB-22ED-4BE8-8E8F-37E6A5CE8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CC2E-BC95-42B3-A304-9A6E728B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567A-B3C6-499E-BAFE-1512D6AD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419D-C7CC-448E-A45F-5B1A5E2D4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F65-DD87-4DCE-AED9-0E03464F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ED21-FA23-4F06-B90C-C449B27F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85A9-5321-441C-BCD8-22697F1F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835-8151-40F7-9C1E-C0C505A4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3D0-3B4B-4DB2-894C-6342E239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5B7-1515-46F2-AA5D-CFC9765C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BE6-5F46-4D22-AF39-A5F9F277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AFA-902E-4C05-8D84-316F0275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6159-A983-419B-B829-0F809B87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0CE7-BAFF-4A58-A080-0977829F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0F5-3ECF-4309-91E6-7D3EF7F7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871-AFC2-4D41-A015-CA7A492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F84-92C0-4A7E-AE7B-ADCCAAE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ED4-3A13-4FA5-881A-3062CFA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0A8-0C7B-49C1-8F40-F59A297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67C-875D-4A4C-BEAF-E0E433B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BDB-51F3-4C8F-A1BA-59B68A6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448-0A09-448A-BA16-DC81731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18C-7B0E-491D-B0EC-F22AA55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740-D9AD-4E4D-B719-A4977F69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979-2230-4B44-AB88-6D364FCE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D21-AA2B-4C90-8DAE-FB4123E1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9D4E-3D33-4D7B-A216-68EFEE85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AD16-45FC-43B6-95E4-7D380E17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08E-4894-4FA5-A3B0-208280D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25CB-15A1-46BC-A125-11A00323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84BF-BF42-40D2-8996-B749BBF7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112A-61F3-4015-AA7D-22062C56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2C9E-A23A-4DB5-80AD-AA598719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865-DAE3-46BA-A128-F51372E0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CD50-D706-4C37-BC36-D0BFA686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4116-3D65-48DB-AC42-CF31B94A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28A3-BB6A-48C1-A7C0-8005997D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A245-9983-4D8C-B396-63DB8CBA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894B-FC17-48EE-B988-D38FBFCB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5FF4-BDE6-422B-99C7-0674185A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2E85-5D8F-422D-B7AE-898F370D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155E-3617-4758-8390-B8CE69C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C529-B2FA-4EF8-9DF7-72CC1458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1CCC-D7C4-49BC-9FF1-5DB8D48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8FC9-E7E1-40B3-B8C6-B46277D7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2AE6-25C5-406D-8B2F-085E26C8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7F81-5D8C-4E97-BA1E-CBDAC00B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3B69-2D06-4811-A572-501B157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159E-D883-4982-BB38-46361F89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3EFC-BCBC-4585-BE77-E161A97C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C35-F2D8-4CCD-B992-9F6C2E0286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537-1A1F-4868-ACFA-D6D4189096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0611-B92A-4892-81F6-B5019AC0CD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539640" y="119700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1042920" y="3284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4788000" y="52293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7.0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6600" y="2000160"/>
            <a:ext cx="8713800" cy="618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ероралну примен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слузокожу (типа суспензиј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под притиск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примену на кож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препар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1111320"/>
            <a:ext cx="8713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040200" y="2898720"/>
            <a:ext cx="3019320" cy="3270240"/>
          </a:xfrm>
          <a:prstGeom prst="ellipse">
            <a:avLst/>
          </a:prstGeom>
          <a:gradFill rotWithShape="0">
            <a:gsLst>
              <a:gs pos="0">
                <a:srgbClr val="14146f"/>
              </a:gs>
              <a:gs pos="100000">
                <a:srgbClr val="1c1c96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4265640" y="288936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5238720" y="307008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5838840" y="366084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6045120" y="455292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5754600" y="536904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9"/>
          <p:cNvSpPr/>
          <p:nvPr/>
        </p:nvSpPr>
        <p:spPr>
          <a:xfrm>
            <a:off x="5084640" y="593892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0"/>
          <p:cNvSpPr/>
          <p:nvPr/>
        </p:nvSpPr>
        <p:spPr>
          <a:xfrm>
            <a:off x="4110120" y="611028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"/>
          <p:cNvSpPr/>
          <p:nvPr/>
        </p:nvSpPr>
        <p:spPr>
          <a:xfrm>
            <a:off x="3346560" y="554364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2"/>
          <p:cNvSpPr/>
          <p:nvPr/>
        </p:nvSpPr>
        <p:spPr>
          <a:xfrm>
            <a:off x="3048120" y="472608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"/>
          <p:cNvSpPr/>
          <p:nvPr/>
        </p:nvSpPr>
        <p:spPr>
          <a:xfrm>
            <a:off x="3579840" y="312264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4"/>
          <p:cNvSpPr/>
          <p:nvPr/>
        </p:nvSpPr>
        <p:spPr>
          <a:xfrm>
            <a:off x="3095640" y="380196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522440" y="283068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572080" y="2071800"/>
            <a:ext cx="296244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лековитог облика иако је лековита супстанца у облику раствора нестабилна (прашкови који се диспергују у води пре употреб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57120" y="1785960"/>
            <a:ext cx="33577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течног лековититог облика иако лековита супстанца није растворна у прописаном вехикулу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 flipV="1">
            <a:off x="468360" y="2998080"/>
            <a:ext cx="2436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6383880" y="3895560"/>
            <a:ext cx="24782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јатриј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 пациј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204840" y="3009960"/>
            <a:ext cx="270036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е за примену на кожу и слузокож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3857760"/>
            <a:ext cx="21812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суспензије имају предност у односу на чврсте дозиране облике, када се жели брзо ослоба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лековите супстанц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 flipH="1">
            <a:off x="8532000" y="5027760"/>
            <a:ext cx="149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214200" y="5643720"/>
            <a:ext cx="25909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формулације облика са  депо деловањем (интрамускуларна инј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6143760" y="5572080"/>
            <a:ext cx="278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корекциј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јатан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3492360" y="2435400"/>
            <a:ext cx="611280" cy="4809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5064120" y="2630160"/>
            <a:ext cx="270000" cy="3222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 flipV="1">
            <a:off x="6097680" y="4049280"/>
            <a:ext cx="253800" cy="1033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1"/>
          <p:cNvSpPr/>
          <p:nvPr/>
        </p:nvSpPr>
        <p:spPr>
          <a:xfrm flipH="1" flipV="1">
            <a:off x="2123640" y="3516120"/>
            <a:ext cx="98604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4"/>
          <p:cNvSpPr/>
          <p:nvPr/>
        </p:nvSpPr>
        <p:spPr>
          <a:xfrm rot="769800">
            <a:off x="2249280" y="4592160"/>
            <a:ext cx="741240" cy="368280"/>
          </a:xfrm>
          <a:custGeom>
            <a:avLst/>
            <a:gdLst>
              <a:gd name="textAreaLeft" fmla="*/ 0 w 741240"/>
              <a:gd name="textAreaRight" fmla="*/ 741600 w 7412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5"/>
          <p:cNvSpPr/>
          <p:nvPr/>
        </p:nvSpPr>
        <p:spPr>
          <a:xfrm rot="603600">
            <a:off x="4830480" y="6159600"/>
            <a:ext cx="1238040" cy="2505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6"/>
          <p:cNvSpPr/>
          <p:nvPr/>
        </p:nvSpPr>
        <p:spPr>
          <a:xfrm rot="20484600">
            <a:off x="2943000" y="6046920"/>
            <a:ext cx="838080" cy="217440"/>
          </a:xfrm>
          <a:custGeom>
            <a:avLst/>
            <a:gdLst>
              <a:gd name="textAreaLeft" fmla="*/ 0 w 838080"/>
              <a:gd name="textAreaRight" fmla="*/ 838440 w 838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3"/>
          <p:cNvSpPr/>
          <p:nvPr/>
        </p:nvSpPr>
        <p:spPr>
          <a:xfrm>
            <a:off x="3040200" y="3108240"/>
            <a:ext cx="3019320" cy="327024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СПЕНЗ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4265640" y="30988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5238720" y="32796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5838840" y="387036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045120" y="4762440"/>
            <a:ext cx="20880" cy="238320"/>
          </a:xfrm>
          <a:custGeom>
            <a:avLst/>
            <a:gdLst>
              <a:gd name="textAreaLeft" fmla="*/ 0 w 20880"/>
              <a:gd name="textAreaRight" fmla="*/ 21240 w 208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8"/>
          <p:cNvSpPr/>
          <p:nvPr/>
        </p:nvSpPr>
        <p:spPr>
          <a:xfrm>
            <a:off x="5754600" y="557856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5084640" y="6148440"/>
            <a:ext cx="268560" cy="144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4110120" y="63198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1"/>
          <p:cNvSpPr/>
          <p:nvPr/>
        </p:nvSpPr>
        <p:spPr>
          <a:xfrm>
            <a:off x="3346560" y="5753160"/>
            <a:ext cx="218880" cy="245880"/>
          </a:xfrm>
          <a:custGeom>
            <a:avLst/>
            <a:gdLst>
              <a:gd name="textAreaLeft" fmla="*/ 0 w 218880"/>
              <a:gd name="textAreaRight" fmla="*/ 219240 w 2188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3048120" y="49356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3"/>
          <p:cNvSpPr/>
          <p:nvPr/>
        </p:nvSpPr>
        <p:spPr>
          <a:xfrm>
            <a:off x="3579840" y="33321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4"/>
          <p:cNvSpPr/>
          <p:nvPr/>
        </p:nvSpPr>
        <p:spPr>
          <a:xfrm>
            <a:off x="3095640" y="40114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1522440" y="30402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181560" y="2500200"/>
            <a:ext cx="2962440" cy="1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а могућност редисперзије чврсте фазе, што може узроковат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ачност у дозирањ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1000080" y="1785960"/>
            <a:ext cx="2967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су нестабилне. Пре или касније долази до таложења чврсте ф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 flipV="1">
            <a:off x="468360" y="32083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 flipH="1">
            <a:off x="8532000" y="5237280"/>
            <a:ext cx="1494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0" y="3714840"/>
            <a:ext cx="25909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микробиолошке контаминаци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357960" y="5000760"/>
            <a:ext cx="2786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вискозитет препарата сувише велики отежано је изливање из боце или пролазак кроз инјекциону иг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>
            <a:off x="3492360" y="2860560"/>
            <a:ext cx="36720" cy="72072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867280" y="3508200"/>
            <a:ext cx="270000" cy="32256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 flipV="1">
            <a:off x="1979640" y="4300200"/>
            <a:ext cx="985680" cy="29844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2"/>
          <p:cNvSpPr/>
          <p:nvPr/>
        </p:nvSpPr>
        <p:spPr>
          <a:xfrm rot="603600">
            <a:off x="4830480" y="6369120"/>
            <a:ext cx="1238040" cy="25092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0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400" y="2142720"/>
            <a:ext cx="8397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е треба да испуни добро формулисана суспенз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, мирис и б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 реолошке карактеристике значајне 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у размазивост и задржавање на кожи (спољашња при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 кроз инјекциону иглу без запушава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карактеристике добро формулисане фармацеутске суспенз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мора остати довољно дуго хомогена, нарочито између мућкања контејнера и изливања потребне количине – дозе л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током мировања – чувања суспензије ствара седимент он треба да се лако ресуспендује – редиспергује лаганим мућка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нзија треба да буде довољно густа (вискозна) како би се смањила брзина таложења честица, али вискозитет не сме бити тако велики да омета примену препар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реба да су малих величина униформне дистрибуције, како би препарат имао гладак, елегантан изглед, без видљиве грубе текс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 је формулисати идеалну суспензију која је физ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 (свака честица треба да је стално суспен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ој фази). Зато се 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боља хом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 таложе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дисперговање лаганим мућк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вискоз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дисперговане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доћи до формирања компактног талога - кеиковање. То се постиже израдом флокулованих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3840" y="2060280"/>
            <a:ext cx="892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 стабилност суспензија утичу следећи фактор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електрокинетички фено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еличина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вашење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дефлокуловано и флокуловано стање (суспенз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) међуповршинска својства суспендованих чест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исперговане честице суспензије делује сила гравита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ед чега долази до седимен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љ је смањити брзину таложењ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ефицијент седимент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они коефициј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 за квантификацију седиментације суспендованих чест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однос волумена седиментационог слоја (висина исталоже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упног волумена суспензије (почетна висина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hx/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028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02896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фицијент седиментације суспензије има вредност мању од 1, а пожељно је да буде близу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магистрално израђене суспенз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1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 за индуструјски произведене 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,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реме од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4250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чврста-течна фаза постоје привлачне и одбојне силе, а да ли ће се честице међусобно привлачити или одбијати у течном медијуму зависи од тога које силе преовладавај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 силе с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der Wa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, а одбојне настају као последица електронабоја на честицам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о наелектрисање честице супстанце узроковано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м адсорпцијом јона из вехикулума (јон додат течном медијуму, водоников или хидроксилни јон ако је у питању вод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ацијом површинских група дисперзне фазе - укупно наелектрисање је у функцији рН вредности вехикул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5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424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у, течни, грубо дисп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, двофазни системи и представљају дисперзије једне или више чврстих супстанци у неком течн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или неводе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у у коме се не раства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ја се диспергује назива се раздељена (распршена) фаза, дисперзна фаза, унутрашња, дисконтинуирана или отворена ф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у којој је извршено дисперговање назива се дисперзно средство, спољашња, континуирана или затворена фаза, а најчешће вехикул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суспенз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тип препарата (лековити облик полидисперзног типа, нпр. маст типа суспенз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97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2296800"/>
            <a:ext cx="410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дисперзних система зависи од наелектрисања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наелектрисања одређује се мерењем електрофоретске покретљивости честица у електричном пољу – мерењ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та 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71600" y="2205000"/>
            <a:ext cx="4038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та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ESTICA"/>
          <p:cNvPicPr/>
          <p:nvPr/>
        </p:nvPicPr>
        <p:blipFill>
          <a:blip r:embed="rId1"/>
          <a:stretch/>
        </p:blipFill>
        <p:spPr>
          <a:xfrm>
            <a:off x="5105520" y="2781360"/>
            <a:ext cx="40384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0080" y="2187720"/>
            <a:ext cx="4597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вршини честице потенцијал  је максималан, затим нагло опада. Идући у правци главнине вехикулума потенцијал опада, расподела наелектрисања  је уједначена (једнако заступљено позитивно и негативно наелектрисањ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е честице ће се у електричном пољу кретати према електроди супротног наелектрис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 на тој равни назива се електрокинетички или зета потенцијал (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CESTICA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4120" y="167292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дисперзије и агрегације могу се објаснити силама интеракције међу диспергованим честица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научника (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jaquin, Landau, Verwe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w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оучавала је к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титативну теорију интеракције између диспергованих честица – по њима названа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VO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предвиђа и објашњава могуће интеракције честица у дисперзним системима (колоидни раствори, суспензије, емулзије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матрају се два основна типа сила – привлачне Van der Waal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 силе и електростатичке одбојне сил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5200" y="78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инетички фено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DLVO"/>
          <p:cNvPicPr/>
          <p:nvPr/>
        </p:nvPicPr>
        <p:blipFill>
          <a:blip r:embed="rId1"/>
          <a:stretch/>
        </p:blipFill>
        <p:spPr>
          <a:xfrm>
            <a:off x="96840" y="1666800"/>
            <a:ext cx="4643280" cy="5214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6480" y="1268280"/>
            <a:ext cx="454644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4767120" y="1809720"/>
            <a:ext cx="39816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влачењ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мању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са удаљеношћу међу честицама; сил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ењ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при малим и велики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-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електростатичког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бијањ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експоненцијално смањује с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љеношћу; силе одбијања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инирај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умереним удаљеностим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BA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интеракција између д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ачење честица је најизраженије када су честице врло близу, у примарном минимуму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 извесној удаљености, секундарни миниму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2771640" y="2332080"/>
            <a:ext cx="359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DLVO"/>
          <p:cNvPicPr/>
          <p:nvPr/>
        </p:nvPicPr>
        <p:blipFill>
          <a:blip r:embed="rId1"/>
          <a:stretch/>
        </p:blipFill>
        <p:spPr>
          <a:xfrm>
            <a:off x="669960" y="870120"/>
            <a:ext cx="4754520" cy="58546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8840" y="471600"/>
            <a:ext cx="4322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Content Placeholder 5" descr="Shap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3216240" y="1535040"/>
            <a:ext cx="3683160" cy="5079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0" y="620640"/>
            <a:ext cx="335592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716360" y="1123920"/>
            <a:ext cx="4176720" cy="69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примарног минимума Е1 је велика и ако се честице њему приближе тешко  се одвајају (кеиковање сист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њим удаљеностима преовладавају одбојне силе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а енергија честица је велика и оне услед одбијања егзистирају свака за себе у вехикулуму (дефлокуловано стање). Али увек постоји опасност да се услед судара честица, оне приближе исувише једна другој, при чему долазе у област примарног минимума, преовладавају привлачне силе и ствара с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ктан агломер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честице на извесној удаљености, у другом енергетском минимуму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овладавају привлачне силе, али се честице могу лако раздвојити, јер је потенцијална енергија Е2 мала (флокулација)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65080" y="115560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967120" y="1327320"/>
            <a:ext cx="384012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440320" y="1052640"/>
            <a:ext cx="301140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и флокуловане сусп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6436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локуловане суспензије –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зета потенцијал (мера потенцијала на површини честице) им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у апсолутну вредн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бојне силе између две честице надјачавају привлачне и у одређеном временском периоду, честице остају појединачно распршене, споро се таложе, граница између талога и супернатанта није оштра, суспензије имају леп изгл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ом ипак долази до таложења, честице се густо пакују, исувише приближавају (област примарног минимума) и снажно привлаче - настаје талог (кеиковање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стабилни систе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апсолутна вредност зета потенцијала честица смањ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владава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n der Waals-ov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е. Честице се приближавају једна другој, формирају растресите агрегате, који се означавају као флокуле (структура налик гроз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обијају се стабилне флок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ција суспензије се може контролисати додатком супстанци које јонизују тако да су настали јони супротног наелектрисања од наелектрисања диспергованих чес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ефлокуловане суспензије          Флокуловане суспензије</a:t>
            </a:r>
            <a:br>
              <a:rPr sz="2400"/>
            </a:b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557360"/>
          <a:ext cx="8353440" cy="5067360"/>
        </p:xfrm>
        <a:graphic>
          <a:graphicData uri="http://schemas.openxmlformats.org/drawingml/2006/table">
            <a:tbl>
              <a:tblPr/>
              <a:tblGrid>
                <a:gridCol w="4079880"/>
                <a:gridCol w="42735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су у суспензији међусобно одвој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у суспензији формирају лабаве агрега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мала, пошто се честице таложе појединачно, а величина им је м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ина седиментације је велика, пошто се честице таложе као флокуле (агрегати чес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53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спо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се формира бр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2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ог је веома густо пакован. Преовладавају одбојне силе међу честицама и формира се компактан талог, који је веома тешко, а некад и немогуће редиспергова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тице нису међусобно повезане јаким везама и не формира се компактан и густ талог. Талог је растресит и лако се редиспергу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лепог изгледа, јер честице остају суспендоване дуже време. Граница између талога и супернатанта ни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је неприхватљивог изгледа, јер се честице брзо таложе. Граница између талога и супернатанта је ошт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нестабилан) </a:t>
                      </a:r>
                      <a:r>
                        <a:rPr b="0" lang="sr-C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прихватљив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утски (стабилан) прихватљив систе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е и међуповршинска својства суспендованих чести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080" y="1971720"/>
            <a:ext cx="83422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су честице мање брзина таложења је спорија. Међутим, ситније честице имају већу специфичну површину, што условљава повећање слободне површинске енергије која систем чини термодинамички нестабил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 теже да се регрупишу и смање специфичну површину а тиме и слободну површинску енерги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аквом систему може доћи до агломерације – флокулације или агрегације (кеиковања) у циљу постизања термодинамички стабилног стањ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ски напон могуће је смањити додатком површински активних материја и тако стабилизовати суспенз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шење че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96720" y="1844640"/>
            <a:ext cx="8423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проблем приликом дисперговања прашкастих супстанци је квашење честица чврсте фаз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 је адсорбовање ваздуха на површину дисперзне фазе и чињеница да је чврста површина хидрофобна (уколико се ради о води као вехикулум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ао квашења или контактни угао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Ɵ)</a:t>
            </a:r>
            <a:r>
              <a:rPr b="0" lang="sr-Latn-C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који заклапа честица дисперзне фазе са површином вехикул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&lt;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– чврста супстанца се добр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Ɵ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90 – чврста супстанца се тешко ква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адсорбују на површини честица, смањују међуповршински напон и смањују контактни уга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ПАМ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LB: 7 -9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глицерол, хидрофилни полимери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суспензије најчешће су намењене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у примену (боља биолошка расположивост у односу на чврсте дозиране облик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у примену (интрамускуларно или субкута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у примен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на кожу (суспензија као резервоар лека у трансдермалном фластер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у отворе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у примену у облику аерос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спензије се убрајају и препарати припремљен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у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ве суспензије), који се непосредно пре употре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 у одговарајућем вехикул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израде суспензија завис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– типа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 суспензије – утиче на редослед додавања компоненти, поједине фазе израде треба извести уз загр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израђује – магистрална израда или индустријска производ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на израд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рионику са писти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 и просејавање чврст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мешавина нерастворних чврстих компоненти меша се са средством за квашење, другим помоћним супстанцама и делом вехикулума до формирања хомогене глатке пасте (концентрат суспензиј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растворне супстанце се растварају у другом делу растварач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/и се уз мешање пистилом додаје/у у концентрат суспенз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чистог растварача оставља се за испирање тарионика и пистила приликом преношења препарата у амбалаж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отребно препарат допунити до прописане масе/волу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а производња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2360" y="1884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у индустријској производњи суспенз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би требало да 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у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јав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 вехикул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ње нерастворних супстанци у вехикулу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осталих компон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и сигнир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AutoShape 4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293" name="AutoShape 5"/>
          <p:cNvCxnSpPr>
            <a:stCxn id="291" idx="0"/>
            <a:endCxn id="291" idx="0"/>
          </p:cNvCxnSpPr>
          <p:nvPr/>
        </p:nvCxnSpPr>
        <p:spPr>
          <a:xfrm flipH="1" rot="16200000">
            <a:off x="4366800" y="18831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59752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, антиоксида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повећање вискоз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25520" y="217656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н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акант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антан гум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сани силикати (лако хидратишу, апсорбују до 12 пута више воде од своје масе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-алуминијум силик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и силицијум диоксид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sil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240" y="2133720"/>
            <a:ext cx="4038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и деривати целулоз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етил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метилцелулоза-натрију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ристална целулоз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56760" y="1056960"/>
            <a:ext cx="8318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ршинс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ј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LB 7-9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исорбати и сорбитан естри за оралне суспензије; натријум-лаурил сулфат за дерматолошке суспензије; лецит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лисорбати за парентералне суспенз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ои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сантан гума, трагаканта, алгинат, деривати целул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шај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д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лицерол, алкохол и пропиленглик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н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пијенси који омогућавају стварање лабавих агрегата чест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јум-лаурил сулфат, бензалконијум хлорид, Полисорбат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ектроли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хлорид, натријум цитрат, калијум дихидроген фосфат, натријум дихидроген фосфат, натријум хлори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фил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ме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MC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целулоза, трагак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аск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ињ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4"/>
          <p:cNvSpPr/>
          <p:nvPr/>
        </p:nvSpPr>
        <p:spPr>
          <a:xfrm>
            <a:off x="468360" y="1197000"/>
            <a:ext cx="84247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о се додају воденим, вишедозним суспенз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конзерванси: деривати пара-хидроксибезоеве киселине (парабени), соли сорбинске киселине, хлоркрез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конзерванса зависи првенствено од пута примене суспен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који би требало да задовољи конзерван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тибилност са осталим компонентама препарата и амбала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 спектар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боју ни ми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е фармакопе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, паковање, дистрибуција и чување суспензија мора да ос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микробиолошки квалит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– категорија 1; за спољашњу примену – категорија 2; за орал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кталну примену – категорија 3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1062000"/>
            <a:ext cx="821844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си</a:t>
            </a:r>
            <a:br>
              <a:rPr sz="16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95280" y="177336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антиоксиданси: бутилхидроксианизол, бутилхидрокситолуол, естри галне 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укуса, мириса и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ње укуса се постиже најчешће додатком шећ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боје: прехрамбен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пуфери: фосфатни и цитратн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9280" y="1557360"/>
          <a:ext cx="8856720" cy="51116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32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ШЕЊЕ ПРОБЛ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3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ИКОВ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ОВАНА СУСПЕНЗ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САЊЕ ФЛОКУЛОВАНЕ СУСПЕН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ГУСТИНЕ И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ОРФИЗ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ТРЕМНЕ РАЗЛИКЕ У ВЕЛИЧИНИ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ОНЦ.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Е ПРОМЕ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МЕЂУПОВРШИНСКОГ НАП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НАЧАВ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ЗАШТИТНИХ КОЛО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ЛОКУЛ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ЕРАНА КОНЦ. ФЛОКУЛАН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 КРИСТ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Ц. ПАМ, ФЛОКУЛАНАТА,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БИОЛОШКА РАСПОЛОЖИВ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СОРПЦИЈА ЛЕКА НА САСТОЈКЕ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ВИШЕ СИТ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МПАТИБИЛНОСТИ САСТОЈАК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КТИВ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СПЕНЗИЈА НИЈЕ ХОМОГЕ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ЈАЦИЈЕ У ВЕЛИЧИНИ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ФОРМ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КЦИЈ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ТЕХНОЛОШКОГ ПОСТУПКА ИЗРАДЕ (МЕШАЊ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 чувању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413000"/>
          <a:ext cx="8893080" cy="5207040"/>
        </p:xfrm>
        <a:graphic>
          <a:graphicData uri="http://schemas.openxmlformats.org/drawingml/2006/table">
            <a:tbl>
              <a:tblPr/>
              <a:tblGrid>
                <a:gridCol w="3011400"/>
                <a:gridCol w="3011400"/>
                <a:gridCol w="2870280"/>
              </a:tblGrid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БЛ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УЗР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РЕШЕЊЕ ПРОБЛ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73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О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ФОБНЕ ЧЕСТИЦ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ВОЉНО КВАШЕ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А ПОДЕСНОГ КВАСЕЋЕГ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ВАЊЕ У ВИШКУ ХИДРОФИЛНОГ ПОЛИМ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4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</a:t>
                      </a: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АН ПУФ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РАДЊА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БИОЛОШКА КОНТАМИН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ПУФЕР ВЕЋЕГ КАПАЦИТ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ЗЕТА ПОТЕНЦИЈАЛ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Л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КОНЗЕРВА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91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 РЕДИСПЕРЗИБИЛ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ЛОКУЛОВАН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ЈЕДНАЧЕНА ВЕЛИЧИНА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АК ФЛОКУЛА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ВЕЛИЧИН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09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И ВИСКОЗИТЕТ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ДГОВАРАЈУЋЕ НАЕЛЕКТРИСАЊЕ ЧЕС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ВИСКОЗИТЕТА ВЕХИКУЛ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НАЕЛЕКТРИС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ДА ТИКСОТРОПНОГ СИС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  <a:tr h="125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А БОЈЕ,МИРИСА И УКУ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ЈЕНА РЕАКЦИЈА САСТОЈ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АБИЛНА БО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СТВО ВАЗДУХА У СУСПЕНЗИЈ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МИЈСКА РЕА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ФОРМУЛАЦИЈЕ ( ПОСЕБНО БОЈЕ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 ОСЛОБОДИТИ ВАЗДУ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А СТАБИЛНОСТИ КОРИГЕН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351640" cy="68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, величина честица у фармацеутским суспензијама износи 0,1 – 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најчешће се креће у опсегу 1 –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суспензија примењује на слузницу ока или у парентералном облику постоје посебни захтеви – величина честица је најчешће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гу бити и веће, али не преко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садржавати супстанце врло ја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е дају општи пропис за израду и 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течне издају се са напоме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 употребе промућка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"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сп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а треба потврд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у, хемијску и микробиолошку 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о делов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а испитивања с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величине чест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успензионог коефи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еђивање зета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едисперзибил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реолошких својстава – мерењем вискоз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рН вре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адржаја активне супста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брзине растварања лековите супстанце из пре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(стерилност или микробиолошка чисто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s://www.youtube.com/watch?v=3Jj8WCJB4OI&amp;ab_channel=NicholasBackst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287080"/>
            <a:ext cx="4038480" cy="4526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48320" y="2287080"/>
            <a:ext cx="40384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4"/>
          <p:cNvSpPr/>
          <p:nvPr/>
        </p:nvSpPr>
        <p:spPr>
          <a:xfrm>
            <a:off x="357120" y="12859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хикулу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спенз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а вода или водени раств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мешају са водом (глицеро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, пропиленглик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вехикулуми који се не мешају са водом (биљн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а уља, синтетски ест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ралне суспензије користи се искључиво вода, док се за остале путеве апликације могу користити и други вехикулу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вехикулума зависи од физичко-хемијских особина лековите супстанце, пута примене, стаби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</a:t>
            </a: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 општу монографију з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es medicin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чни лековити препарати з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им монографијама других препарата наводи да ти лековити облици могу бити и препарати типа суспенз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приме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(gut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тур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 н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слузокожу о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гале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ц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суспензија 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и Ph. Eur. 7.0 н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опш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суспензија већ се у оквиру других монографија наводи да ти лековити облици могу бити и препарати типа суспензиј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342864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о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ер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билне табл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ae medicinales (само ме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1214280"/>
            <a:ext cx="82296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лековити облици типа суспензија за парентералн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лековити облици типа суспензија за примену на слузокожу 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лековити облици типа суспензија за примену на к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примену на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спољашњу прим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типа суспензија за примену у отвор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cionica</cp:lastModifiedBy>
  <dcterms:modified xsi:type="dcterms:W3CDTF">2022-10-19T10:36:50Z</dcterms:modified>
  <cp:revision>2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a59b6cd5-d141-4a33-8bf1-0ca04484304f_ActionId">
    <vt:lpwstr>5b44249e-7a87-427d-a7cd-f32d73985abf</vt:lpwstr>
  </property>
  <property fmtid="{D5CDD505-2E9C-101B-9397-08002B2CF9AE}" pid="4" name="MSIP_Label_a59b6cd5-d141-4a33-8bf1-0ca04484304f_ContentBits">
    <vt:lpwstr>0</vt:lpwstr>
  </property>
  <property fmtid="{D5CDD505-2E9C-101B-9397-08002B2CF9AE}" pid="5" name="MSIP_Label_a59b6cd5-d141-4a33-8bf1-0ca04484304f_Enabled">
    <vt:lpwstr>true</vt:lpwstr>
  </property>
  <property fmtid="{D5CDD505-2E9C-101B-9397-08002B2CF9AE}" pid="6" name="MSIP_Label_a59b6cd5-d141-4a33-8bf1-0ca04484304f_Method">
    <vt:lpwstr>Standard</vt:lpwstr>
  </property>
  <property fmtid="{D5CDD505-2E9C-101B-9397-08002B2CF9AE}" pid="7" name="MSIP_Label_a59b6cd5-d141-4a33-8bf1-0ca04484304f_Name">
    <vt:lpwstr>restricted-default</vt:lpwstr>
  </property>
  <property fmtid="{D5CDD505-2E9C-101B-9397-08002B2CF9AE}" pid="8" name="MSIP_Label_a59b6cd5-d141-4a33-8bf1-0ca04484304f_SetDate">
    <vt:lpwstr>2021-10-22T16:50:37Z</vt:lpwstr>
  </property>
  <property fmtid="{D5CDD505-2E9C-101B-9397-08002B2CF9AE}" pid="9" name="MSIP_Label_a59b6cd5-d141-4a33-8bf1-0ca04484304f_SiteId">
    <vt:lpwstr>38ae3bcd-9579-4fd4-adda-b42e1495d55a</vt:lpwstr>
  </property>
</Properties>
</file>